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90139F8-3076-4004-9B44-CB1A2862BD3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88617526-2AA7-47F0-91AF-A1CBC4FFEF4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B4D7A1A1-81BB-4687-8DA5-22C4DB490CF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44A55689-0EE0-402B-9196-318AC24F9A2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4D64B2C2-9DAB-4FFE-AA69-AE87F65A858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2C79C12-1821-4E93-9074-7C8D496AA4E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A60E0335-33F4-41E1-819C-714ADADE0C8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78BC0CA2-2464-4400-AD54-9C6127617F4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4731C3C8-4FE9-48B8-921C-68C09627FC8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34E2629C-6598-480F-9486-B978B16538A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D1C90363-FDA6-4B51-89F3-8581F511239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BEE50080-5310-440C-8A3D-CA619C6CE47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AB6F7F-0E01-4238-B847-735E85F549E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4AD64AD-51D7-4F51-9ADF-6B51CAF68B3C}"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DACFEA6-980A-40A4-BE5D-47173B3021E6}"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3F895822-2A3B-415F-8176-C1A13D042E28}"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697A113-EA3D-4D72-A643-E86A106CE4B2}"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B8CF8A1-D127-4D39-BF90-61D7F6EA85D0}"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5C83782-91AD-475E-858A-A0D938CE8521}"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7D809F1-ED1B-40DA-9BB6-18310BF7DB45}"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04894D4-38E4-40D8-9BEE-7F674545071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CCCCB72-CBF6-4079-B9CA-0604EB913BC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6C19C94-F0F6-4041-83D4-EA67A414F43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FB33FC-9FBC-4946-AAE8-42964E979AB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3B8C78C5-3E7A-443C-94C9-BC085165578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BB4BB61C-86D8-47AF-A25F-C1DA905B3F3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90BB7983-4148-407E-BA73-D3D92DDB27F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9BEE76-0B1B-460F-A971-234F8FBBA71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BC86E18-14AF-43C6-90FB-BB2B83EF042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764C8CF-0D82-4864-BBD4-B2466AE6A04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52F8ECC-9B2A-416B-9FCD-BAF9A1A73AC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589F051-7264-496A-850A-A02AC8D09B7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ABBC9F8-B50C-4058-8E48-1166E4E1ECA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3DDD9F5-C505-4807-8F55-EA095654734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5D1DE23-B4BC-4C2A-8E76-E316394260F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51434B1-B066-49B3-8E4B-8C5019D5933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B221F53-05B2-4EBA-A622-8A3CEBA2575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69823A1-1CE8-4942-957A-10389044CC9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48855D1-43E5-41AA-B6A3-092AA86FCA5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E7AD734-1D82-400D-8EDC-181BE13F901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A03D50-9128-4F29-9B6F-1530E863C2E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157D700-A640-45E7-8E48-836A01B91690}"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CCE302E-63E8-4CA1-9E18-3D7C07C9D237}"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C8436E9-38AC-4818-8A67-7A15F0777329}"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CA4C9DC-F9FA-4047-9BE2-F24D4B82D17F}"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B20DA1F-CD14-47E5-ADE8-A23DBA70EA04}"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8815B28-F385-4345-845D-2BFBABF9432C}"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83BC222-2DAB-4855-BE11-BE8EF0EFACAA}"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1F3C556-70F8-4E8A-9339-C5BF576129B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6423AF5-94D0-43F3-82E5-10F0082B13F4}"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4D3A5C88-9461-47E3-AFC8-19E1454749DC}"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01FD12C-9AB3-47A5-8139-F7043C1F8571}"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1EC5F80-0EE7-4EAC-80E9-0BB9975BD4E7}"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D1DF175-E9D9-4216-90E3-543CEAF2362A}"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BB9DFA8-4EC2-4912-9164-A785C26F8E00}"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C9DF1F8E-3D72-43AE-B130-8F075DC9B99F}"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AF78000-7023-416D-934A-5340965D1E41}"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EC9E71D-64B6-4595-9EC5-58A50BB00490}"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379D83C-9CEB-491F-B5F7-3BF16B3D9BCB}"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9824D5C-0BA2-45C0-B9C9-6817D9C64F27}"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1307D722-7F67-495B-9C98-6198F335169A}"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8B4DCA1-0827-472A-AB40-D3B19C248033}"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5440C20-7C0A-40F7-B75B-5B7840B021EC}"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1D0E40D-C879-4F61-950D-8F61973D70D5}"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403226E-8C9F-4032-90C9-CB54E5168311}"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29E1C4B-BD26-4B0F-BC6F-3A486433534C}"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E848975-FCE8-4786-A2B7-4D88F7182A96}"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7E9C64B-8DEA-430B-AB68-793E81149497}"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53712A9-24FB-412F-82B8-5528BD114918}"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65BD4F-0D08-45BE-BB8B-615873B64952}"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517FC8D-7EA6-4D86-88A9-88D7F592EEFA}"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C181D7B5-8716-4886-A1F4-A29BC537FA3F}"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63142F3-1FED-4A86-ABB2-2C2526BD0519}"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3FD7E3D-C5B6-4679-A5E0-390FE32AA78B}"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BDC2B52-A371-46FA-9DD4-0A5F9CFCDF3E}"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578B7B6-135D-4781-9F70-E286D557ACCA}"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E71B93A-843B-40AF-A5C7-11BB22E97629}"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56F1BD9-0539-491D-A22A-AEFCB92F2D83}"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4199002-A852-4BF3-9DA2-861D745A1EDF}"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9205822-412A-42DE-A81C-3C542AFA0540}"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9668BDA-495E-4CCA-86DB-31E0577F7109}"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9C94BBC-0A33-4051-AFCA-431CA0B0E1E1}"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73AC4B5-2FDE-4CA5-82BE-5DA3F7B8B0BF}"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2E95D778-2C9A-46A0-9B15-A0AA63830BF5}"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B4488A8-8FA5-4BEB-976A-AE1C6FCCBBDD}"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CC46A11-6764-4B82-A748-B82C63B8373E}"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5F0B177-2927-4BE0-B6EC-39996A6DDCCE}"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9333E8F-A948-4102-9107-42E6F256BAEF}"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05A3F4A-C484-4EAB-A407-B288F2F1186B}"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230B670-6F50-45A0-B160-5C1CF075A4C4}"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0CA5F21-AD56-46B7-8C9F-18E9A64F87CE}"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77630C4-2941-4D78-A600-5BF9D87828E0}"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D1634F8-1E5C-4D62-B3F4-68ADDBEDD3D2}"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B0F7AB8-01BF-4357-B776-11FDCC562DF3}"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E7D3815-9198-470E-BBDC-FE949ED72610}"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702C469-4597-42C2-A076-49D8EAAC04A8}"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456528F-EB6C-493F-9BE4-64BFE45E0115}"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7CD6587-08C1-4FA4-A31B-ADB1EDCB6140}"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9F266FD-25D3-4575-B615-00DD4757E833}"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9BF1192-6008-430B-8213-67F3C4738C19}"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86266E3-11A6-4FB6-9027-F250A72C31B2}"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D74AA26-B12A-4F8C-879D-97CFA673ADEC}"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74CE47F-C35C-4502-B480-D7A29BB83BD9}"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9CD6064-43D1-4EDC-91A2-11D04EBE1DB2}"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B75DD9F-F1B2-467F-9A38-E1669CBA785D}"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010B54A-0EDA-4454-B747-E71FFB0EBFF1}"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938B695-2592-413B-8C69-9110C8384B3A}"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6C52D1B-1E08-4BEF-9C4C-0D901E597C9F}"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98FE486-D3E0-4ABF-9976-F00577879F81}"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6E0C129-73B6-485F-9D7F-40B65A98B414}"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6B21EFB-4C7E-4BC0-B101-F5B90511A32D}"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C75DBA0-3AE6-4FA0-AD4C-393C22DED37C}"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FF1D3D6-6AE1-49A8-8CFF-7D9034F19D7E}"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D43C0B2-6778-4206-A964-06036BD7D2F0}"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FE03D51-A283-4BE4-9C74-5F0BA60EE294}"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03F9017-9627-470C-BD0D-46129D525F8A}"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D610FA4-5CA7-4CCA-9686-969F4070A850}"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